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29D-70C2-4A70-9945-76BD7877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4A1-46A1-4068-841D-4CDC099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91B-AE5D-4881-9584-056FCA78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23B-01E1-4C99-83CC-65C0A1D2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537-52B8-4BF3-92A9-9593B3F8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7CA-3ADF-4270-8A83-5DDC60C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56D-E97E-40EE-96E6-C561857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1A0-CF3A-4565-9EA2-1FB453C9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F26-771B-4C5F-A487-65FF8209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A77-3981-439F-BAAB-082D3C60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20B-E844-45E0-8CA2-3456AB4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1F6-6E34-4517-B621-D3D6234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0415-F55E-4BCA-8A72-E31B1B89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33520" y="603360"/>
          <a:ext cx="7848360" cy="58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3360"/>
                    <a:ext cx="784836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4-07-24T14:06:46Z</dcterms:modified>
  <cp:revision>20</cp:revision>
  <dc:subject/>
  <dc:title>No Slide Title</dc:title>
</cp:coreProperties>
</file>